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638-A7C6-4A1D-A35A-4B8CBD60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3B6-093B-41C3-B6A6-14DAB7FD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0F0-6E68-4F37-BB58-1E8A200F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029-582D-4A79-B5AC-1828ED6C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CA6-A646-43E9-A51A-BB401710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EDA-A9D7-4E00-960B-BF3FCD26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E8F-2E69-4A5E-9D69-DB310744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E80-6068-4FC5-96DF-A3456B00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CA7-05D0-466A-98C6-904C68A2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67F-BF0F-4275-84FB-F6767CE6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4AD-BD53-4219-B61C-50CA186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62C-14F3-44FB-AC0E-6F74C1A1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F654-C0BF-4660-9CF4-05C78E17E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41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EPC LogoCMYK" descr=""/>
          <p:cNvPicPr/>
          <p:nvPr/>
        </p:nvPicPr>
        <p:blipFill>
          <a:blip r:embed="rId2"/>
          <a:stretch/>
        </p:blipFill>
        <p:spPr>
          <a:xfrm>
            <a:off x="685800" y="152280"/>
            <a:ext cx="2743200" cy="98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114800" y="314280"/>
            <a:ext cx="441972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OA LM6000 Projec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Located Adjacent to Existing TACOA 1,500 MW Power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will be Shared with (2) LM2500 Gas Turb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MW Capacity from (2) LM6000 Gas Turbines Purchased by EDC from the US Surplus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will Operate on Natural Gas with Water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BOP Equipment to be Supplied by ProEnergy E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Energy EPC to Design, and Construct the Project on a Turnkey Basis Utilizing US Based Engineering and Project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Energy EPC will Utilize Local Subcontractors for Civil, Erection and Electrical-Mechanical Labor to Construct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Energy EPC will Utilize ProEnergy US-Based Technicians for Commissioning and Testing of the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Schedule Kick-off June 1, 2009 &amp; COD Dec.30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rial View of the TACOA Project 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71600" y="1320840"/>
          <a:ext cx="7162920" cy="55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20840"/>
                    <a:ext cx="716292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14400" y="941400"/>
          <a:ext cx="73915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41400"/>
                    <a:ext cx="7391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8080" y="1000080"/>
          <a:ext cx="754380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00080"/>
                    <a:ext cx="75438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824040"/>
          <a:ext cx="7772400" cy="60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24040"/>
                    <a:ext cx="7772400" cy="60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9:55:54Z</dcterms:created>
  <dc:creator>PES</dc:creator>
  <dc:description/>
  <dc:language>en-US</dc:language>
  <cp:lastModifiedBy>PES</cp:lastModifiedBy>
  <dcterms:modified xsi:type="dcterms:W3CDTF">2009-05-19T22:57:45Z</dcterms:modified>
  <cp:revision>13</cp:revision>
  <dc:subject/>
  <dc:title>Slide 1</dc:title>
</cp:coreProperties>
</file>